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E1206-8834-45F5-B251-25491C2B70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1146240" y="685800"/>
            <a:ext cx="45702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PlaceHolder 1"/>
          <p:cNvSpPr>
            <a:spLocks noGrp="1"/>
          </p:cNvSpPr>
          <p:nvPr>
            <p:ph type="body"/>
          </p:nvPr>
        </p:nvSpPr>
        <p:spPr>
          <a:xfrm>
            <a:off x="685800" y="4343400"/>
            <a:ext cx="5487840" cy="41162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Lucida Sans Unicode"/>
              </a:rPr>
              <a:t>Welcome to SEC103 on Secure Programming Techniques.  In this course, I assume that you have some background in computer security, but now you want to put that background to use.  For example, in the Computer Security Principles and Introduction To Cryptography courses, we cover topics such concerning trust and encryption.  In this course, we put these principles into to practice, and I’ll show you have to write secure code that builds security into your applications from the groun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E2C28E6-0640-4D2B-8F64-6441A8AF2E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68C8D2-85DE-440E-BC67-2A14DEEB81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CF3116E-19E2-489F-B654-C0C69578A3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1A2DA26-4C59-4681-9C11-2BA2371C1F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863A44-E18B-45EC-B0BA-37A6A5F299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B3C93A-8897-4AC6-BF81-B3A39FC88B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256407-1BB8-4BC3-886B-049349804D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71A22F-54E3-4007-90EE-76A4ADE654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CBB755-5BE2-48DC-A31A-3A79FDAA14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CDC0E3-F217-4318-AFB4-22A91A186D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80B242-B79E-4A44-AF87-96137562FF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957112F-8A4E-43A4-8F1E-2119AF2547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DAB3CF-F0FD-484B-B5A7-FAB9D02D0D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F9CC43-6F3C-478A-8274-858FC324C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8E0991-977E-4A65-B8B3-A11808DBAB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A3356F-B1C0-4D1D-9DAB-5D70CD318C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6A4BF5-CDED-406F-9593-EE57B84845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CBEB9EF-0104-48FF-AAED-FC91377592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CE6A01-91EA-40C0-9BA0-F58408195F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35D0D30-CEE2-432F-890B-858F5E259F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4EC98FB-E8F2-43AF-A6CE-41D988DE35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C9948A-F576-4EC3-97BC-AD69D84BC7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FB9ADB-31AF-4B4A-857A-3032A53A32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25BAA6-54F1-40E5-B044-61FB2C5C9A5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559F4-55AA-4779-B1A1-DC95720ADD2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6A172-7418-413F-A985-0006F6669A5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752480"/>
            <a:ext cx="7772400" cy="147024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6300"/>
            </a:br>
            <a:r>
              <a:rPr b="0" lang="en-GB" sz="4000" spc="-1" strike="noStrike">
                <a:solidFill>
                  <a:srgbClr val="000000"/>
                </a:solidFill>
                <a:latin typeface="Arial"/>
                <a:ea typeface="Lucida Sans Unicode"/>
              </a:rPr>
              <a:t>C</a:t>
            </a:r>
            <a:r>
              <a:rPr b="0" lang="en-GB" sz="3200" spc="-1" strike="noStrike">
                <a:solidFill>
                  <a:srgbClr val="000000"/>
                </a:solidFill>
                <a:latin typeface="Arial"/>
                <a:ea typeface="Lucida Sans Unicode"/>
              </a:rPr>
              <a:t>HAPTER</a:t>
            </a:r>
            <a:r>
              <a:rPr b="0" lang="en-GB" sz="4600" spc="-1" strike="noStrike">
                <a:solidFill>
                  <a:srgbClr val="000000"/>
                </a:solidFill>
                <a:latin typeface="Arial"/>
                <a:ea typeface="Lucida Sans Unicode"/>
              </a:rPr>
              <a:t> </a:t>
            </a:r>
            <a:r>
              <a:rPr b="0" lang="en-GB" sz="4000" spc="-1" strike="noStrike">
                <a:solidFill>
                  <a:srgbClr val="000000"/>
                </a:solidFill>
                <a:latin typeface="Arial"/>
                <a:ea typeface="Lucida Sans Unicode"/>
              </a:rPr>
              <a:t>11</a:t>
            </a:r>
            <a:r>
              <a:rPr b="0" lang="en-GB" sz="6300" spc="-1" strike="noStrike">
                <a:solidFill>
                  <a:srgbClr val="000000"/>
                </a:solidFill>
                <a:latin typeface="Arial"/>
                <a:ea typeface="Lucida Sans Unicode"/>
              </a:rPr>
              <a:t> </a:t>
            </a:r>
            <a:br>
              <a:rPr sz="6300"/>
            </a:br>
            <a:r>
              <a:rPr b="0" lang="en-GB" sz="6000" spc="-1" strike="noStrike">
                <a:solidFill>
                  <a:srgbClr val="000000"/>
                </a:solidFill>
                <a:latin typeface="Arial"/>
                <a:ea typeface="Lucida Sans Unicode"/>
              </a:rPr>
              <a:t>Exercises for Part 2</a:t>
            </a:r>
            <a:endParaRPr b="0" lang="en-US" sz="6000" spc="-1" strike="noStrike">
              <a:solidFill>
                <a:srgbClr val="000000"/>
              </a:solidFill>
              <a:latin typeface="Arial"/>
            </a:endParaRPr>
          </a:p>
        </p:txBody>
      </p:sp>
      <p:pic>
        <p:nvPicPr>
          <p:cNvPr id="113" name="" descr=""/>
          <p:cNvPicPr/>
          <p:nvPr/>
        </p:nvPicPr>
        <p:blipFill>
          <a:blip r:embed="rId1"/>
          <a:stretch/>
        </p:blipFill>
        <p:spPr>
          <a:xfrm>
            <a:off x="7238880" y="4648320"/>
            <a:ext cx="1371600" cy="1828800"/>
          </a:xfrm>
          <a:prstGeom prst="rect">
            <a:avLst/>
          </a:prstGeom>
          <a:ln w="0">
            <a:noFill/>
          </a:ln>
        </p:spPr>
      </p:pic>
      <p:sp>
        <p:nvSpPr>
          <p:cNvPr id="114" name=""/>
          <p:cNvSpPr/>
          <p:nvPr/>
        </p:nvSpPr>
        <p:spPr>
          <a:xfrm>
            <a:off x="304920" y="5105520"/>
            <a:ext cx="7086600" cy="129528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Arial"/>
              </a:rPr>
              <a:t>Slides adapted from "Foundations of Security: What Every Programmer Needs To Know" by Neil Daswani, Christoph Kern, and Anita Kesavan (ISBN 1590597842; </a:t>
            </a:r>
            <a:r>
              <a:rPr b="0" lang="en-GB" sz="1700" spc="-1" strike="noStrike">
                <a:solidFill>
                  <a:srgbClr val="666699"/>
                </a:solidFill>
                <a:latin typeface="Arial"/>
              </a:rPr>
              <a:t>http://www.foundationsofsecurity.com</a:t>
            </a:r>
            <a:r>
              <a:rPr b="0" lang="en-GB" sz="1700" spc="-1" strike="noStrike">
                <a:solidFill>
                  <a:srgbClr val="000000"/>
                </a:solidFill>
                <a:latin typeface="Arial"/>
              </a:rPr>
              <a:t>). </a:t>
            </a:r>
            <a:r>
              <a:rPr b="0" lang="en-US" sz="1700" spc="-1" strike="noStrike">
                <a:solidFill>
                  <a:srgbClr val="000000"/>
                </a:solidFill>
                <a:latin typeface="Arial"/>
              </a:rPr>
              <a:t>Except as otherwise noted, the content of this presentation is licensed under the Creative Commons 3.0 License.</a:t>
            </a:r>
            <a:endParaRPr b="0" lang="en-US" sz="17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ual Exercises (1)</a:t>
            </a:r>
            <a:endParaRPr b="0" lang="en-US" sz="4400" spc="-1" strike="noStrike">
              <a:solidFill>
                <a:srgbClr val="000000"/>
              </a:solidFill>
              <a:latin typeface="Arial"/>
            </a:endParaRPr>
          </a:p>
        </p:txBody>
      </p:sp>
      <p:sp>
        <p:nvSpPr>
          <p:cNvPr id="116"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Chapter 9, the password manager stored passwords in a file. What would be some of the trade-offs involved in storing the passwords in a relational database instead of in a file? What types of additional input validation might need to be done on usernames and passwords if they are to be stored in a databas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ual Exercises (2)</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an HTML filter that, given an arbitrary HTML document, produces an HTML document that will not result in the execution of script if loaded into a user’s browser, but leaves “basic markup” (fonts, formatting, etc.) intact. Consider the possibility that the input document is not well-formed HTML, and also consider browser-specific feat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ming Problem</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HTTP digest authorization. Use a password file with salts, and reuse the </a:t>
            </a:r>
            <a:r>
              <a:rPr b="0" lang="en-US" sz="2800" spc="-1" strike="noStrike">
                <a:solidFill>
                  <a:srgbClr val="000000"/>
                </a:solidFill>
                <a:latin typeface="Courier New"/>
              </a:rPr>
              <a:t>BasicAuthWebServer</a:t>
            </a:r>
            <a:r>
              <a:rPr b="0" lang="en-US" sz="2800" spc="-1" strike="noStrike">
                <a:solidFill>
                  <a:srgbClr val="000000"/>
                </a:solidFill>
                <a:latin typeface="Arial"/>
              </a:rPr>
              <a:t> from Chapter 9. Implement a program that allows you to add and delete passwords to and from the password fi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arker Student</cp:lastModifiedBy>
  <dcterms:modified xsi:type="dcterms:W3CDTF">2008-06-20T22:19:17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